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366-DDFB-4D8A-9216-70FB69EA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FAC-2B51-499A-AD15-C758D34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3FB7-A3C9-4178-84D7-8B9DDF7B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25885-6ECB-4A90-A519-E3BAA58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2FDB4-E256-4B24-A7F9-621DF66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AB79A-BAB5-43C7-B0D7-EC4BBCE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2BD69-9179-4113-8433-1FB2649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6A558-9C5F-4F34-83E7-2FA2D205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19256-D1EB-4705-8E5A-F9DA225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EB1B-1498-4F22-B1A7-5B3CC576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AB2A5-3F7C-4B20-8F31-AC755823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94D58-6ED4-4F45-9364-6D703677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34A-C87F-4877-93CC-E95FEA6C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0702A-B66A-4C07-8C63-9AE9EAD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5A0E9-08EE-422D-AEBF-A5EA7C1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1E016-5DAC-4185-9B1A-305D8039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77C6-10D8-4928-BF87-228B001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08184-C2E7-435E-8444-684DFC11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53BC9-0D30-4041-9CB5-527CE34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2A543-7302-45AF-B685-E697AE5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B00FA-3D21-4112-837A-96A29EE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5A6C9-7DD1-4AD1-ADCC-2340B9A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762F-6185-40CE-AB07-99AF8595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1BE-B255-4E64-845E-3783F135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9C833-BEB2-4321-9C7F-7C3CD5B9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BCECC-C485-4FD7-8F80-20992047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3525-6F0D-42D6-8C6A-BEE22C9C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5D69-ACBE-4A96-8367-FFEC50FC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A1B03-E507-449F-9307-A44A794A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775A6-FB8A-45F9-BBE3-515F6A6B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76B94-93DF-432A-AF8D-005B096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2B063-9A00-448D-92B1-9EB7D11E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66B2D-3D13-4012-8C35-99F8B48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A104E-6D80-4FD8-B790-F6A2C51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AFC-7B0C-4B2D-BEB2-EE2D6931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9F58B-8E17-48E3-8A6C-5AFF469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D7EE-2DB3-4353-9B2A-35BE9A4A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5DF47-495F-446F-8A05-75719C54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24490-0F4F-43C0-82C7-2927C91F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2D457-5322-403D-B4A2-C36544B0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293A4-1DC3-42AC-9D3B-6F595AF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636A-458F-4C66-8B9A-093D8301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C30A8-1AAB-45A0-8264-8C85FB9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DDF12-A2FB-4F07-8C33-10B8A11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7F275-381F-4AAF-92FF-3CC3768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3A0D-DD3D-4287-A373-AF2848F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D2644-5761-43C2-AC47-48E18DC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8885C-D7E5-4895-BB42-CEFC2B6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00314-3F02-479D-BE5B-3C9D9CD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DEF8A-7594-4BA0-A1D8-1C96C02F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D167-EE04-423D-B97B-7D9F0A65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C5A96-8F85-4C92-B4A5-648FE432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39B6A-F1A2-42F7-9ADB-A5447D7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F365E-87ED-475B-BA10-10506A2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47F77-4543-4CEC-8640-C7E51747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107E0-C4E6-4D4E-9B63-C70D843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C976-2D77-445E-8096-696FBC10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07E5E-134D-4A79-B262-21428C7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240D1-A165-40B9-9266-302B5C6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91FA0-6540-49E4-8298-6488C4E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67EAC-B304-42D5-96F2-D778F38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484FB-C32D-45C3-A53D-F6694348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BE9E8-7A56-4B51-A757-07BAF3F2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85D64-51B6-4C51-9EB7-EB0B7B17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C238D-6567-4284-A48C-A1516B10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B026D-9B4C-4D81-B0EC-9DFB53A0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B0CC4-77E0-48A7-995A-B07BF25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DDB9-4BD0-4580-A094-18C5F476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F604F-65B5-4661-96EB-1203708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AA38D-942B-4B8A-B3F9-1E2EB54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1AF44-5609-4AF5-B228-842ED36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9AD2B-BEB1-4B87-8A03-B8C7778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8EF42-D0EB-4D9E-93DA-EBDA241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8AD3A-A9C1-4858-B792-42AC5CE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C0D0D-D0A6-496A-A067-73D3DCD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CDD90-9779-4B0D-80C2-EF8EE4A8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76625-5E70-4723-959D-39C95B3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9FEB4-3373-4209-A06A-BCD3CAC4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D3C9-FCE5-4480-B012-E97F786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6B5EC-B987-4541-AB57-FE153E8F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F1B46-351F-4E25-AD31-409E233E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F020C-DBFB-4C6D-B16B-7F069ED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E395A-153C-4C66-AE10-E4023D92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63968-6693-46A3-BACA-F4EA19AB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973C-C83D-4498-99EE-E018862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794D4-9D7E-4D1B-AEBD-A6E8BF1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B99A9-7018-4C07-9BED-9DF7A372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F2810-AC43-4285-8D1A-072AB725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3E03D-B060-4778-ADBA-B52B4C4E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D250-52D0-47AC-A732-D60EBCBF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8C9EA-466E-4148-8983-C2995FF9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DFEA7-0840-4EDA-938E-CB6F57C5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662F6-1C80-4775-A29A-FE9F5936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54866-CBF8-4D5C-AC74-07E9C142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7021A-CF42-4A97-8278-8CD1A54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B3BBF-B706-43CE-86D0-D8B74543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16644-2171-4DFD-BC03-78B87E5F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F6AF0-E395-41EE-B839-A4279F41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C109E-B746-48C4-8D81-9E32755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AD5779-0CA9-4A65-8481-06BC284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E7A-1A79-419A-90DF-36321124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049AE-839B-4FF1-BBB6-0DC7ADC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57F28-671D-4A54-B88B-0B2C688A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2E395-DFA9-454F-9620-32080BBB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71877-E38B-45D4-9F4C-99753CC4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72601-609A-4834-9D45-4095F72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FECBB-D755-47D6-9B23-0BCE9F10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4F1D5-A09A-42B7-BEE1-811DD095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18592-CCF1-406B-B64F-063C2D5B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3D822-05B4-4A36-8AB5-7C4C3F73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79647-A4FD-432C-8200-2468E58B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6CA-D26C-4300-911A-7DAB6F01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CA0-7B84-44B2-B530-86BCB81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4F7C5-2596-4F62-B8ED-DDFA807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F5E3D-8EDB-4A2B-9C9D-84F0C943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F5F46-D151-4285-ADFB-30957CE2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6E81F-AE6E-4247-9F14-798AA047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FF078-A29B-43A7-BB20-56312587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5575A-4787-43B4-862D-8E401BD0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DE62D-03CA-43ED-8D84-0D38659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C2246-1517-4DB7-9043-B2A72EAA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83266-EAB3-4AFE-B400-095E698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27D92-BBAD-42A0-85A7-2B595D1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DA53-4495-4110-BE06-BB68A38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6212E-619C-4828-B26C-58657D4A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20BF3-C8F0-4114-820A-E7343F9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6082E-5963-4AFB-A6E9-A314F71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72A70F-00B4-4CC0-B2B7-A2F7404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B1C3A-B89F-4877-A40F-C76B9F01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38A7E-8185-45F1-9AC1-35212225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BAA7A-E4FF-408E-942B-2E3F97A6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B1407-A051-4F97-A558-0137B679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63E74-BE0D-41BD-BBFA-A2F6AA0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7A6D9-EA41-41BB-BFA6-69DF089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C96-0A29-4C05-8449-F5A5BD9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A6F40-5DEC-46C7-93FF-B6B0024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79D18-08D0-48CC-9D81-938CA4D6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8D7CFC-9B23-4497-BA74-8217D91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E8B3A-5340-48D7-B08E-4903437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1AB24-09D0-4C1F-88E7-3F26CF4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488BDD-D16D-41DD-BE1A-A3AD96E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A755B-11C1-4562-8D3C-610A27C4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30D1C-6C01-48E6-AC88-6E5184D8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DC3D4-FE95-415E-8A17-07DB731D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2E153-84FF-437A-A439-1A6206BB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7DF4-893C-4A5A-AF22-96FD742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6821D-0168-4519-998F-03D8650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D5E1EC-A99B-49D3-B988-8D8CEDFF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B42C7-473F-44B8-A351-7CFDDCA3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A8E99-23C1-4D90-9723-5B5F7FFF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C6439-B996-442C-906B-A7455BC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41274-15C7-4478-BC30-724CF77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697F7-80DD-4066-917F-761F72B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30A2F-B366-4285-A389-66EADDE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4F644-7890-4470-9801-6DF7A08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CF4C0-E0FC-4125-AD31-E2B6FEF6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9C4F-849B-468D-8DBC-7BCAD154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BFF10-7931-49E0-801A-E01F84EB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CDBE1-0D9E-4233-92DF-5DE99742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67CB6-C3BC-4A06-875E-F5253403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B5173E-8312-4F9C-A807-EC65694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F01F6-98E2-4B8C-87F4-6B2EEE9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EA28D1-C08D-42D2-B8DE-EA7E91F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47B9D-FDB4-4E0C-82F3-4A67072B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0EDDD-772A-4922-B025-605521E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9253F-AD03-4589-9795-85A2E09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FFE08-2AE3-4070-905A-BFFF04F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B6E6-D38E-470A-9018-45A0806C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46BFD-7D19-4E6C-8BEC-FA5872F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9880A8-F23E-4873-9596-E686F13E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13EB2-8125-4273-A92E-1E82DA2C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98D79-391D-4B64-991B-2C976086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95206-459A-4586-B059-1CDFA06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22950A-5CA2-4407-974E-ABB488A1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88ED0-5381-4CC3-8DAD-D68CFFBA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1D7F8-574B-4AE0-A703-58CFCAD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1B6F66-7C93-4BEF-8F85-FEA27573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9AAC7-EF66-4DA9-B776-74F7F9F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412D-ACD5-402D-95CD-04B47D3E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D1B82-1453-429E-A206-53A35830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7CD96D-F661-4171-BC10-E9AA419D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DAE6F-F37B-442B-A40B-1FE5E87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720D5-9766-4149-876A-163161DF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E73E4-A3C0-4CCD-A4F8-93BF428F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6EC7-FC61-42F5-81EC-189A71A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6947-CEA4-47FC-BD6B-87706ACF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63B6-75FC-4ADC-9B3F-0BACD26D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B99-77E4-49DE-B549-3ADEB1F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7E37-4C35-4001-8E68-5CE5BFFF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6276-A3A8-453D-B527-68BAC16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89C2-C3E7-40D5-A6D0-7C9B403A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D806-B77D-4DB1-A284-959FD72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F00B-40CA-4A4C-BD88-0585306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DB65-205D-4268-94F2-54D36931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1D2CB-D9B4-48EE-BD80-5859941B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3AF7-ADD4-4411-9E7C-1CA0882B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A194-8ADC-42F3-BDEE-F509F6F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429E-7833-4125-BBB9-C0B0CBA0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D07-9145-4944-949E-D9A6B63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B10E-E71C-432D-8F01-501B130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16C2-CF0F-4E63-B5A7-A7F75A9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C0E7-BA45-496C-8E1F-92D4E9F0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714F-5C2B-4EDA-8862-982A717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17CAC-6072-4FC4-B6F9-B323B58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1C7D-B1F7-4D73-BC3F-1A92692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5F67-03D5-434F-AF29-B6E43EF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D4E1-6641-4D4D-8268-20A85100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3142-91F9-4E28-925E-7AE04CDC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2F67-9052-4840-BEFE-A4678674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6A7-A24E-48D0-867D-C29FFD7A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AE51-7DA6-4AB9-919D-E212CFB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67B0-FB52-4AC3-9EF3-B236608C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7A2F-0436-4EFE-9651-643DAFC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68A8-9832-4833-8AA9-4B4BCBD7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1F988-6AD3-4FD6-BEDB-9BFA7EE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8EB3-F785-4871-9767-B3A6061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F5EA-26C3-4817-8342-8216695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3B77-888B-4896-8DE5-DA096E7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A43E-3157-4C7F-9789-245D2359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DC5F-0667-4699-8AEA-333B261A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5BA-E1DD-4E36-A814-BB8D0BB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51F3-A470-45C9-9F3A-8CBF1B6D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B392-83A2-4A45-A73C-32C62807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0514-D49C-4C9F-8355-EA7E382D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288E-84FE-44DB-9911-DB5E2F0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F8497-6C99-46D3-AD4C-3DDC1532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1F12-AA55-4D74-A484-825FB9C8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6EE02-B09E-4B6B-9C61-DB85EBA0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C179-8254-43BC-832C-D2F5448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010B-F0EC-4FF3-98DE-39F069A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F585A-6733-4F1E-A540-BE95B02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E4C-5321-4DE0-ADFE-F77AB28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2B50-9B10-4E93-B2A5-63C771A6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DC5B-7941-47F2-9C46-0691367B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191B-3E07-4E92-8F7B-FFD412E2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5A34-0B94-46C4-B9E6-14F36C5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ECB4-0F55-44FA-8243-3D817F3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8C0E-6CCD-4F30-9AC6-9E7941C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CBF05-10AA-43ED-90FE-5DCBC1A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265E-C789-4F34-8D87-7AFBC3CD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AD1D-9D36-4A4B-9BD8-09CB108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96BB-925F-4BB8-A40B-33188E0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4EB-1355-42D9-902F-ABADAE3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1EF60-D3EB-4235-A686-F5F33B2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0449-1941-4513-A26A-633EAE3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C6F7-D074-4645-AB5A-0A09C2B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048C5-4036-4BB5-9EB9-F26DA354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D037-B719-483C-BA79-7C7F2332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2E33A-034A-4C7F-8ACB-C414D685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A056D-7EEB-40DE-AB42-BEEF8B55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AAC84-CC23-4EF3-B269-3EAF998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D86A-8011-4C6F-9243-A1607E80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5D8F5-0BD9-495A-9B76-86A86D0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ED8-6111-44A4-99E2-D6F34B6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A637F-4B60-49B9-BCD5-52004AE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475DD-9176-431B-A892-0DAD878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A337-CFEE-4A8E-A49B-72BE087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85894-130D-4DB9-B496-80118278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473D-E912-4DBC-80F5-EB31D53B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3042-2299-4811-9E61-873AB73B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BA054-3267-4D00-B861-68733AAF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90BA7-9B52-4DB9-AA10-C82E4ECB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CAD84-1F90-46CD-999A-353CD253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63A1-5D90-49E3-9661-068BD69B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FA5-EE41-4676-A5DB-2ECD007E78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555-E892-41FD-9837-AFACBBF9D2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943E-D13C-432F-9D8F-BAC0DDF32B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BA1-0499-4AE8-B8BB-7863F8F72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AE89-5ACA-4BAB-BE96-E220AF5BC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6B0-FE6D-40AA-97A2-4AA4C3400C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DF6-7FB1-4C5F-92C3-5B5F9C4E2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27D2-FD69-4185-BD85-8B6FCF854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D8F-D2BB-4A28-B2AA-A92BF5291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35E-D347-4991-8141-7034EC24B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FE98-8228-4F55-86E9-BAC58D83D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3E7-556C-4841-9599-C682C42C9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714-618C-4C84-9C6C-953C8E0F5B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0531-0261-4EC0-8850-7481F84C3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87FD-8F81-4C10-9896-3A6DA5344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7D02-847E-4EB0-A9F0-B388315A3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EDC-5C2D-4952-A57D-73A9195AF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7BD-A8E3-408E-BF58-50DA020272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191-ABE8-41FD-B503-94B5A449C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9A8D-B2AD-44B7-BFDF-191E1D7A12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7E4-4BF0-46BB-93B0-E2AE50267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637-C827-4823-9249-ACEF12A7AA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AB2-DCAF-4DC6-B5EF-D79EE6AFD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6FF2-22ED-4651-8991-4E48A9157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152-6E54-48D0-B147-61D664FB9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D0CE-2551-41AA-8282-F18681CEA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9D7-7D78-4A33-A4C2-C6A847255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5EB-4366-4DB0-B3F1-83927A3E6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DFA9-6FA6-496F-926E-85AF1122B4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20CF-C4E2-4647-A17B-CE28B361A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DBF3-7690-4480-A92D-C0EBDAD9A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C0B-A7CA-4BD1-AEF4-B65CF769A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6F5F-96C2-42BA-9CAC-798B8CD4D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AD8-096E-4484-8FE1-99CA7CD4D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80C-CFF4-4A11-AC0D-D60D71940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D83C-DAF3-4DBD-967F-E0708E9C9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C8B-ED46-4345-A952-52C508DD62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4045-06D4-4F4A-8738-A02704A7F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8A76-037C-4CE4-9C71-A10A514E0B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5A4-DFA1-47BD-951F-BA8F889F5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C495-DB30-494C-8307-998734A14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452600" y="2179800"/>
            <a:ext cx="7095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765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1216080" y="3357720"/>
            <a:ext cx="371520" cy="62856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7" descr=""/>
          <p:cNvPicPr/>
          <p:nvPr/>
        </p:nvPicPr>
        <p:blipFill>
          <a:blip r:embed="rId3"/>
          <a:stretch/>
        </p:blipFill>
        <p:spPr>
          <a:xfrm>
            <a:off x="2843280" y="3341520"/>
            <a:ext cx="371520" cy="62892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8" descr=""/>
          <p:cNvPicPr/>
          <p:nvPr/>
        </p:nvPicPr>
        <p:blipFill>
          <a:blip r:embed="rId4"/>
          <a:stretch/>
        </p:blipFill>
        <p:spPr>
          <a:xfrm>
            <a:off x="4543560" y="3341520"/>
            <a:ext cx="371520" cy="62892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149" descr=""/>
          <p:cNvPicPr/>
          <p:nvPr/>
        </p:nvPicPr>
        <p:blipFill>
          <a:blip r:embed="rId5"/>
          <a:stretch/>
        </p:blipFill>
        <p:spPr>
          <a:xfrm>
            <a:off x="6213600" y="3341520"/>
            <a:ext cx="371520" cy="62892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6150" descr=""/>
          <p:cNvPicPr/>
          <p:nvPr/>
        </p:nvPicPr>
        <p:blipFill>
          <a:blip r:embed="rId6"/>
          <a:stretch/>
        </p:blipFill>
        <p:spPr>
          <a:xfrm>
            <a:off x="7899480" y="3355920"/>
            <a:ext cx="371520" cy="62856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6151" descr=""/>
          <p:cNvPicPr/>
          <p:nvPr/>
        </p:nvPicPr>
        <p:blipFill>
          <a:blip r:embed="rId7"/>
          <a:stretch/>
        </p:blipFill>
        <p:spPr>
          <a:xfrm>
            <a:off x="928800" y="4506840"/>
            <a:ext cx="1581120" cy="105732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6152" descr=""/>
          <p:cNvPicPr/>
          <p:nvPr/>
        </p:nvPicPr>
        <p:blipFill>
          <a:blip r:embed="rId8"/>
          <a:stretch/>
        </p:blipFill>
        <p:spPr>
          <a:xfrm>
            <a:off x="2541600" y="44784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153" descr=""/>
          <p:cNvPicPr/>
          <p:nvPr/>
        </p:nvPicPr>
        <p:blipFill>
          <a:blip r:embed="rId9"/>
          <a:stretch/>
        </p:blipFill>
        <p:spPr>
          <a:xfrm>
            <a:off x="4168800" y="4492800"/>
            <a:ext cx="1581120" cy="10760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54" descr=""/>
          <p:cNvPicPr/>
          <p:nvPr/>
        </p:nvPicPr>
        <p:blipFill>
          <a:blip r:embed="rId10"/>
          <a:stretch/>
        </p:blipFill>
        <p:spPr>
          <a:xfrm>
            <a:off x="5767560" y="4476600"/>
            <a:ext cx="1581120" cy="109548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155" descr=""/>
          <p:cNvPicPr/>
          <p:nvPr/>
        </p:nvPicPr>
        <p:blipFill>
          <a:blip r:embed="rId11"/>
          <a:stretch/>
        </p:blipFill>
        <p:spPr>
          <a:xfrm>
            <a:off x="7365960" y="4460760"/>
            <a:ext cx="16002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组合 7171"/>
          <p:cNvGrpSpPr/>
          <p:nvPr/>
        </p:nvGrpSpPr>
        <p:grpSpPr>
          <a:xfrm>
            <a:off x="14400" y="961920"/>
            <a:ext cx="9115200" cy="4934160"/>
            <a:chOff x="14400" y="961920"/>
            <a:chExt cx="9115200" cy="4934160"/>
          </a:xfrm>
        </p:grpSpPr>
        <p:pic>
          <p:nvPicPr>
            <p:cNvPr id="975" name="图片 7169" descr=""/>
            <p:cNvPicPr/>
            <p:nvPr/>
          </p:nvPicPr>
          <p:blipFill>
            <a:blip r:embed="rId1"/>
            <a:stretch/>
          </p:blipFill>
          <p:spPr>
            <a:xfrm>
              <a:off x="14400" y="961920"/>
              <a:ext cx="9115200" cy="49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图片 7170" descr=""/>
            <p:cNvPicPr/>
            <p:nvPr/>
          </p:nvPicPr>
          <p:blipFill>
            <a:blip r:embed="rId2"/>
            <a:stretch/>
          </p:blipFill>
          <p:spPr>
            <a:xfrm>
              <a:off x="557280" y="1398600"/>
              <a:ext cx="845820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直接连接符 7172"/>
          <p:cNvSpPr/>
          <p:nvPr/>
        </p:nvSpPr>
        <p:spPr>
          <a:xfrm>
            <a:off x="1173240" y="2060640"/>
            <a:ext cx="165564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7173"/>
          <p:cNvSpPr/>
          <p:nvPr/>
        </p:nvSpPr>
        <p:spPr>
          <a:xfrm flipH="1">
            <a:off x="1332000" y="2147760"/>
            <a:ext cx="1727280" cy="9939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7174"/>
          <p:cNvSpPr/>
          <p:nvPr/>
        </p:nvSpPr>
        <p:spPr>
          <a:xfrm>
            <a:off x="4543560" y="2031840"/>
            <a:ext cx="165564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7179"/>
          <p:cNvSpPr/>
          <p:nvPr/>
        </p:nvSpPr>
        <p:spPr>
          <a:xfrm>
            <a:off x="6329520" y="2119320"/>
            <a:ext cx="165564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7180"/>
          <p:cNvSpPr/>
          <p:nvPr/>
        </p:nvSpPr>
        <p:spPr>
          <a:xfrm flipH="1">
            <a:off x="4643280" y="2017800"/>
            <a:ext cx="3384720" cy="1123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图片 7181" descr=""/>
          <p:cNvPicPr/>
          <p:nvPr/>
        </p:nvPicPr>
        <p:blipFill>
          <a:blip r:embed="rId3"/>
          <a:stretch/>
        </p:blipFill>
        <p:spPr>
          <a:xfrm>
            <a:off x="352440" y="4002120"/>
            <a:ext cx="8763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8193" descr=""/>
          <p:cNvPicPr/>
          <p:nvPr/>
        </p:nvPicPr>
        <p:blipFill>
          <a:blip r:embed="rId1"/>
          <a:stretch/>
        </p:blipFill>
        <p:spPr>
          <a:xfrm>
            <a:off x="452520" y="2505240"/>
            <a:ext cx="8238960" cy="1847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4427640" y="3645000"/>
            <a:ext cx="649080" cy="504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5508720" y="3789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7308720" y="37893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2:55:2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